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.gif" ContentType="image/gif"/>
  <Override PartName="/ppt/media/image12.wmf" ContentType="image/x-wmf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B452-F166-44D3-AF42-2BC4E4EB31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45F2-2169-4016-AB33-B4AA379B4F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4D71-78A1-4F94-A07A-9CDBCB100E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8BDB-75C4-4BFD-8D72-47DCD5D867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C649-8725-4866-82FA-59AB944E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7FD4-F068-439E-BBEC-95A1FBC0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B6B3-01B7-477B-B6C4-97C2627C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990A-EBAA-45B4-ACE8-5540A35F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A0C2-51A6-4D1A-B2BD-FDA71EE2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6B37-0150-4D47-93F8-B29D691D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ACEC-C5D2-4795-8C9B-D20C45CC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BAEC-2670-4220-AD39-6ACC52B7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D0CB-F8E0-40F4-9B37-10D71A46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07F4-0AEC-419A-8760-F9BCC0E1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AA90-BBEE-4FC9-8CFC-C26822F4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2C29-F170-4B73-8876-9EDD0A2D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49C8-1D05-4023-BBE3-5AB97FC8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8B5F-ACE4-4926-A696-6DE7B421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0237-9BE3-4FBF-897B-A95A2D09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B867-0FCA-4D19-B791-9D56C413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1BE6-625A-47AD-97BF-3C6B1EFC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E941D-3CEF-45FD-9731-CECE19C83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7F7CC-4795-4A0E-8AAF-7E3907DC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114E7-9331-43E9-A7DF-797D1CC7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641A4-2BA8-4546-932F-978D1588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2598B-E574-4756-8F60-4E5240B7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A82D-AD28-404F-8B73-2E17D7AA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2C6EB-5C25-44DE-ADB5-7BB10F84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79AEE-40F3-444B-B533-2DBDC403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2E9A2-79E5-4E41-A209-88BD33C8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A1690-7368-4460-ABFA-2979D4FA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FAA78-6BD1-4592-873C-5C1B6CF0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0C41E-3519-45B0-BB91-81BC13EB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C3D47-EE6F-42BB-857B-8ED78E74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A6D3-FE88-43A9-84A0-4A226489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E7AA-A302-4D9B-84B6-2D944F76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C59B-9563-4788-9B62-89391190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6277-4527-4AD5-B461-DF60D496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8228-AFC3-4BC6-A547-5DD4F98A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0B8A-2434-45A7-A537-A4440577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DC3A-B1D9-4465-AA89-BC6C7ADF9716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8037-33AA-470F-B9E7-EC848EF8E7DC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logomarksml.gif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logomarksml.gif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7"/>
          <p:cNvSpPr/>
          <p:nvPr/>
        </p:nvSpPr>
        <p:spPr>
          <a:xfrm>
            <a:off x="500040" y="1500120"/>
            <a:ext cx="8215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3551-569F-4281-B21F-BA15911DB559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9D35-8456-43D3-AEEA-CE24E5D17D50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logomarksml.gif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86" name="Straight Connector 7"/>
          <p:cNvSpPr/>
          <p:nvPr/>
        </p:nvSpPr>
        <p:spPr>
          <a:xfrm>
            <a:off x="500040" y="1500120"/>
            <a:ext cx="8215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03C5-566B-44DA-A8A7-7363289FF4C2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2CBB-DD52-49F7-8B15-B864048EA628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vodpod.com/watch/2090231-digital-education-revolution-nsw?pod=lofts1964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457200" y="2209680"/>
            <a:ext cx="8229600" cy="53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Welcome to Rose Bay Secondary Colle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Parent Information N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6.00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NAPLAN.. Interpreting the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Questions and Answ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6.30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Digital Education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Information and pres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All parents are to pick up their Info. Pack. User agreements to be signed and returned to front office. By the end of Term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HeaderforNews copy.jpg"/>
          <p:cNvPicPr/>
          <p:nvPr/>
        </p:nvPicPr>
        <p:blipFill>
          <a:blip r:embed="rId1"/>
          <a:stretch/>
        </p:blipFill>
        <p:spPr>
          <a:xfrm>
            <a:off x="1371600" y="380880"/>
            <a:ext cx="6756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Side Vie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R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642960" y="2214720"/>
            <a:ext cx="7286760" cy="22921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4"/>
          <p:cNvSpPr/>
          <p:nvPr/>
        </p:nvSpPr>
        <p:spPr>
          <a:xfrm>
            <a:off x="571680" y="4272120"/>
            <a:ext cx="3500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1. Not inclu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2. Headphone jack (externa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3. Microphone jack (externa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4. USB 2.0 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4071960" y="4272120"/>
            <a:ext cx="45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5. LAN 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6. Security keyhole - You can purchase a security cable and lock to fit this keyhole. Before purchasing any security product, verify that it is compatible with this type of security keyhole. (Example: Kensington Loc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Issu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6043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Charter must be signed and returned before laptop is issu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Must know DET username and password for issu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Recording features used in an appropriate wa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Power cables will not be brought to  schoo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Return if on extended lea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0" name="Content Placeholder 3" descr=""/>
          <p:cNvPicPr/>
          <p:nvPr/>
        </p:nvPicPr>
        <p:blipFill>
          <a:blip r:embed="rId1"/>
          <a:stretch/>
        </p:blipFill>
        <p:spPr>
          <a:xfrm>
            <a:off x="6429240" y="1714680"/>
            <a:ext cx="22291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Who to get help from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Technology Service Officers – will help resolve technical problems including hardware faul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Our TS0 is Robbie Cottrel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He will be located in the Library tech roo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He will accept lappies at  the front counter During Recess &amp; Lunch Tues to Thursday for tech assist. No students out of clas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Your classroom teacher can help you with your DET passwor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Safety &amp; Secur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Hard case to prote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Theft – police reports, Tracking and lock down op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Provisions for damage (spare machine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Stickers to personali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Backing up da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My locker and looking after your laptop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Our expect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6840" y="1600200"/>
            <a:ext cx="454356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ffffff"/>
                </a:solidFill>
                <a:latin typeface="Calibri"/>
              </a:rPr>
              <a:t>Students will bring every day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ffffff"/>
                </a:solidFill>
                <a:latin typeface="Calibri"/>
              </a:rPr>
              <a:t>Laptops will be fully charged every night. Students will not bring chargers to school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ffffff"/>
                </a:solidFill>
                <a:latin typeface="Calibri"/>
              </a:rPr>
              <a:t>Will replace student diaries for Stage 5  in 2010. A digital diary will be trialled this year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ffffff"/>
                </a:solidFill>
                <a:latin typeface="Calibri"/>
              </a:rPr>
              <a:t>Normal discipline procedures will be applied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Picture 4" descr="{90bf3d9d-497f-4e0c-a342-d5de42860eb8}.jpg"/>
          <p:cNvPicPr/>
          <p:nvPr/>
        </p:nvPicPr>
        <p:blipFill>
          <a:blip r:embed="rId1"/>
          <a:stretch/>
        </p:blipFill>
        <p:spPr>
          <a:xfrm>
            <a:off x="5072040" y="1714680"/>
            <a:ext cx="37162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What will lessons be like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1600200"/>
            <a:ext cx="39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Will change over time when we have full networ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Use of software like OneNote to turn into an exercise boo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Similar initial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0" name="Picture 3" descr="{a14ed644-2614-4c83-9b15-04445cf8a4ee}[1].JPG"/>
          <p:cNvPicPr/>
          <p:nvPr/>
        </p:nvPicPr>
        <p:blipFill>
          <a:blip r:embed="rId1"/>
          <a:stretch/>
        </p:blipFill>
        <p:spPr>
          <a:xfrm>
            <a:off x="4643280" y="2500200"/>
            <a:ext cx="4048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did some students say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s://www.det.nsw.edu.au/proflearn/der/staffdev/vision.htm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deo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s://www.det.nsw.edu.au/proflearn/der/staffdev/vision.htm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 &amp; A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formation 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www.schools.nsw.edu.au/derns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ome Answers to some questio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s://detwww.det.nsw.edu.au/deptresources/majorprojects/dernsw/faqs/laptop/index.ht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090603-RJE_0559.jpg"/>
          <p:cNvPicPr/>
          <p:nvPr/>
        </p:nvPicPr>
        <p:blipFill>
          <a:blip r:embed="rId1"/>
          <a:stretch/>
        </p:blipFill>
        <p:spPr>
          <a:xfrm>
            <a:off x="1285920" y="857160"/>
            <a:ext cx="6646680" cy="44290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"/>
          <p:cNvSpPr/>
          <p:nvPr/>
        </p:nvSpPr>
        <p:spPr>
          <a:xfrm>
            <a:off x="457200" y="5500800"/>
            <a:ext cx="8229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Rose Bay Secondary College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Digital Education Revolution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AU" sz="2800" spc="-1" strike="noStrike">
                <a:solidFill>
                  <a:srgbClr val="ffffff"/>
                </a:solidFill>
                <a:latin typeface="Calibri"/>
              </a:rPr>
              <a:t>Year 9  2009 &amp; 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The Digital Education Revolu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600200"/>
            <a:ext cx="46148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Calibri"/>
              </a:rPr>
              <a:t>The DER is a Federal initiative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Calibri"/>
              </a:rPr>
              <a:t>Rudd promised Children Yr 9 – 12  access to a computer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Calibri"/>
              </a:rPr>
              <a:t>The laptop program is NSW DET’s implementation of that promise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Calibri"/>
              </a:rPr>
              <a:t>Laptops will be rolled out each year to Yr 9 students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Calibri"/>
              </a:rPr>
              <a:t>By 2012, all students in Yrs 9 – 12 will have a laptop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Calibri"/>
              </a:rPr>
              <a:t>The program also includes a high speed wireless network, laptops for staff, staff training and technical support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Content Placeholder 4" descr="{330df5d1-490b-4ac9-944a-cacd3511e3b0}.jpg"/>
          <p:cNvPicPr/>
          <p:nvPr/>
        </p:nvPicPr>
        <p:blipFill>
          <a:blip r:embed="rId1"/>
          <a:stretch/>
        </p:blipFill>
        <p:spPr>
          <a:xfrm>
            <a:off x="5286240" y="1571760"/>
            <a:ext cx="3326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gital Education Revolution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vodpod.com/watch/2090231-digital-education-revolution-nsw?pod=lofts1964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What is happe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Laptops will be arriving term 4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Theirs while at a State schoo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Theirs to keep after Yr 1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A limited number of rooms on the wireless network. More will be add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Some staff have laptops. More will be issu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State wide interest in our experien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3" descr="090603-RJE_0838.jpg"/>
          <p:cNvPicPr/>
          <p:nvPr/>
        </p:nvPicPr>
        <p:blipFill>
          <a:blip r:embed="rId1"/>
          <a:stretch/>
        </p:blipFill>
        <p:spPr>
          <a:xfrm>
            <a:off x="6072120" y="1785960"/>
            <a:ext cx="26431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The Lapto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2000160" y="2278080"/>
            <a:ext cx="514368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Top Vie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5286240" cy="40687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8"/>
          <p:cNvSpPr/>
          <p:nvPr/>
        </p:nvSpPr>
        <p:spPr>
          <a:xfrm>
            <a:off x="6000840" y="1643040"/>
            <a:ext cx="2714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1. Integrated Cam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2. Computer display - The colour display with T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3. Power button (Use the Power button to turn on the computer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4. Microphone (built-i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5. (Not u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6. Wireless device swit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Bottom Vie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4628880" cy="45259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4"/>
          <p:cNvSpPr/>
          <p:nvPr/>
        </p:nvSpPr>
        <p:spPr>
          <a:xfrm>
            <a:off x="5643720" y="1785960"/>
            <a:ext cx="2928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1. Battery latch - spring loaded (To remove the batter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2. Battery p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3. Battery latch – man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Side View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500040" y="2071800"/>
            <a:ext cx="5000760" cy="12031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501120" y="1571760"/>
            <a:ext cx="10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579960" y="3429000"/>
            <a:ext cx="8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5572080" y="1643040"/>
            <a:ext cx="314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1. System status indicators - The system status indicators show the current status of your compu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2. Speakers - Built-in speakers for rich powerful sou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500040" y="4214880"/>
            <a:ext cx="4572000" cy="13874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0"/>
          <p:cNvSpPr/>
          <p:nvPr/>
        </p:nvSpPr>
        <p:spPr>
          <a:xfrm>
            <a:off x="5429160" y="4000680"/>
            <a:ext cx="371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1. Fan louvers - The fan louvers allow warm air to exit the compu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2. AC power adapter jack - Connect the power adapter here (AC adapter onl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8760" y="592920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3. VGA port       4. Multi-media reader slot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5. USB 2.0 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6:47:44Z</dcterms:created>
  <dc:creator>MWATSON8</dc:creator>
  <dc:description/>
  <dc:language>en-US</dc:language>
  <cp:lastModifiedBy>Denise Lofts</cp:lastModifiedBy>
  <dcterms:modified xsi:type="dcterms:W3CDTF">2009-09-22T07:07:41Z</dcterms:modified>
  <cp:revision>72</cp:revision>
  <dc:subject/>
  <dc:title>Slide 1</dc:title>
</cp:coreProperties>
</file>